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F0A-659A-48AD-810D-2BF81601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1A2-705F-425A-9D40-F074AFBA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B98-5714-44A0-B225-31E41803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371-0DF2-41F6-BAD1-64D0D73D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25A2-04EF-48F1-B24F-7B688F4E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C1EC-3630-46B8-A65F-53DA5EE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EF8-7AAC-4996-9C23-A9D2CD6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ADB-9DC7-436A-8F53-2D8D720E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55E-A493-4AF0-AB20-3151D285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0C39-E971-4E71-90BB-C47C784A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0656-119B-4003-96D4-DA377514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885-841B-4BDF-8A61-4AB7106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CA5-0512-4BCA-B039-57798BE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2FAB-05E7-4E30-A24C-31896FA2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3EEE-7F04-4929-843E-6DB9AA84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FD59-CE28-4682-B058-07FEC60D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336B-4633-4B1E-8EA1-621744D4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EB9-0EA1-42F6-A381-C8B639C4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0AC-0632-4BC4-9C2F-A9E89E65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ABF-BD96-4E2D-9EE3-88E534A8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02E-1B77-4931-9D2D-F962250B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C68-A7B1-48A7-8FB3-7250ABAA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543-A21C-40EE-8AD1-8C36250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0B40-1706-4F46-B45B-89CA07F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99A-B55E-425C-95C2-310EDA2195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2505-F1B5-44DA-9C95-71B1851240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oy.Fitzgerald@vernonct.or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go-passport.grolier.com/" TargetMode="External"/><Relationship Id="rId3" Type="http://schemas.openxmlformats.org/officeDocument/2006/relationships/hyperlink" Target="http://go.grolier.com/" TargetMode="External"/><Relationship Id="rId4" Type="http://schemas.openxmlformats.org/officeDocument/2006/relationships/hyperlink" Target="http://infotrac.galegroup.com/itweb/s1461?db=SRC" TargetMode="External"/><Relationship Id="rId5" Type="http://schemas.openxmlformats.org/officeDocument/2006/relationships/hyperlink" Target="http://find.galegroup.com/menu/start?prod=OVRC&amp;userGroupName=s1461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www.iconn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 to Magazines and Online Datab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ult Ed - 20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43400" y="4388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ckville High School Wikispaces Page with links for your us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mped or need help with online re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mail the RHS Librarian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oy.Fitzgerald@vernonct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 will email back with answer if I can hel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of ICONN Resourc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3&amp;prodId=IPS&amp;docId=A204808169&amp;userGroupName=s1461&amp;version=1.0&amp;searchType=AdvancedSearchForm&amp;source=gale&amp;infoPage=infoMarkP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on the Internet – Sources Availab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Library Resources -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Library Resources –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Internet Resources (Google or oth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be authorit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re provent to be un-reliable some of the time so must be double checked if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85760" y="1752480"/>
            <a:ext cx="72201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86200" y="972360"/>
            <a:ext cx="8418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through ICONN (** This also has a HISTORIC CONNECTICUT NEWSPAPERS DATABASE which covers 1764-192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63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 or Cit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T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ource Citation Murphy, Kate. "Organic food: should you bother?" Self July 2000: 84+. General OneFile. Web. 25 Jan. 2010. &lt;http://find.galegroup.com/gps/start.do?prodId=IPS&amp;userGroupName=s1461&gt;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TRA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bstract: A discussion of the possible benefits of eating organic food in the US is presented, with focus on the health benefits due to lack of pesticides and enviromental issues. </a:t>
            </a: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 – Electronic or Print versions of publications by the government on all different top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have some in Print in our VERTICAL FILE, a print set of folders in file cabine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websites may have information 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pulation Statistics and Public Information are common and available from many websites ending in “.gov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f these you can download PDF versions or request a print version be mailed to you for free or a small char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to specific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95200"/>
            <a:ext cx="7315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62240" y="190800"/>
            <a:ext cx="563796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tional Arch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 Library Resources -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00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62240"/>
            <a:ext cx="876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6400" y="91008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Card Catalo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found through Pai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Vertical File &amp;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s – Historical – Ask at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bases from State and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 Onlin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Home page on RHS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WIKI page 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ine Databases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LIER 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o-passport.grolier.com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go.grolier.c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TUDENT RESOURCE CENTER GOL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srcx/start.do?sc=S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pposing Viewpoints Resource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ovrc/start.do?prodId=OV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Databases are overall more reliable than a search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T State Resources at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co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10-01-25T20:54:41Z</dcterms:modified>
  <cp:revision>26</cp:revision>
  <dc:subject/>
  <dc:title>Library Orientation</dc:title>
</cp:coreProperties>
</file>